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A81-2C23-4CEB-A721-229488D7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594-8450-4F47-B71D-C7D5032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9F6-A5D8-4F26-A887-E0881380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709-09CB-4670-A568-4CF3B037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6227-5D88-4AE0-A496-4C29D737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518-6E8C-4492-BF73-7B00675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C13-4895-42CF-A357-D89EB5A5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DD45-C9A5-4CEE-9513-DA76D986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E26-D668-42DD-9DF8-0DE204A1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4180-9F2D-4D43-9674-CCC6C735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95BE-0BF1-4BE2-9991-2AA385E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68C-039E-40A0-AC3A-2C6A902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2F69-EE4B-49EF-BF4E-1FE9A5E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11A0-F322-422E-A8A3-E88C265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A81F-1DBE-4F27-843C-C2117A27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6D1D-4624-4940-9739-AD4605E3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513B-ABCF-427A-86FD-A0058441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F60-4A97-4E66-8E3B-83FD4F37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5E9-F48F-4DD7-BF95-7C0B082A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514-0599-4AB1-8697-3CE1C266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A31-738B-4E27-ADC9-3D04619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3CD-EF3D-4ABC-916D-BF0F597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6A6-96C3-4E37-9417-3A8C099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88A-1AC4-40B3-8629-746027B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920-5101-43C0-B3BB-BC07C66E0F69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D33-E309-4CD7-819D-8BD61338901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339-BDA3-45D9-9F31-231EB641D3C3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DBF3-0E3B-4FA7-9A6E-06CC052A01B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15c19"/>
                </a:solidFill>
                <a:latin typeface="Arial Black"/>
              </a:rPr>
              <a:t>PROGETTO </a:t>
            </a:r>
            <a:r>
              <a:rPr b="0" lang="it-IT" sz="4000" spc="-1" strike="noStrike">
                <a:solidFill>
                  <a:srgbClr val="f15c19"/>
                </a:solidFill>
                <a:latin typeface="Lucida Console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040" y="41144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04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9880" y="2514600"/>
            <a:ext cx="53341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R. M. E .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Istituto  Statale Comprens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di Scuola Materna -  Elementare -  Med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OVANNI XXIII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IETRAVAIRANO (C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34340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267080"/>
            <a:ext cx="89917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Percorso Didattico- Educ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per  il successo formativo 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la realizzazione  di  un</a:t>
            </a:r>
            <a:r>
              <a:rPr b="1" lang="it-IT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“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OGETTO DI VITA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65D9-B4A0-47A2-B3EB-E40D4EFFC0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Times New Roman"/>
              </a:rPr>
              <a:t>Programm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i  TEMPI  del  PROGET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5320" y="2895480"/>
            <a:ext cx="8303040" cy="2136960"/>
            <a:chOff x="535320" y="2895480"/>
            <a:chExt cx="8303040" cy="2136960"/>
          </a:xfrm>
        </p:grpSpPr>
        <p:grpSp>
          <p:nvGrpSpPr>
            <p:cNvPr id="119" name=""/>
            <p:cNvGrpSpPr/>
            <p:nvPr/>
          </p:nvGrpSpPr>
          <p:grpSpPr>
            <a:xfrm>
              <a:off x="715680" y="2895480"/>
              <a:ext cx="7665480" cy="1076040"/>
              <a:chOff x="715680" y="2895480"/>
              <a:chExt cx="7665480" cy="107604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680" y="2895480"/>
                <a:ext cx="2823480" cy="215280"/>
              </a:xfrm>
              <a:prstGeom prst="flowChartProcess">
                <a:avLst/>
              </a:prstGeom>
              <a:solidFill>
                <a:srgbClr val="00ccff"/>
              </a:soli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Fase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44920" y="3326040"/>
                <a:ext cx="3102840" cy="214920"/>
              </a:xfrm>
              <a:prstGeom prst="flowChartProcess">
                <a:avLst/>
              </a:prstGeom>
              <a:solidFill>
                <a:srgbClr val="00ccff"/>
              </a:soli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Fase 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47760" y="3756600"/>
                <a:ext cx="1733400" cy="214920"/>
              </a:xfrm>
              <a:prstGeom prst="flowChartProcess">
                <a:avLst/>
              </a:prstGeom>
              <a:solidFill>
                <a:srgbClr val="00ccff"/>
              </a:soli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Fase 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35320" y="4187160"/>
              <a:ext cx="8303040" cy="845280"/>
              <a:chOff x="535320" y="4187160"/>
              <a:chExt cx="8303040" cy="845280"/>
            </a:xfrm>
          </p:grpSpPr>
          <p:sp>
            <p:nvSpPr>
              <p:cNvPr id="124" name=""/>
              <p:cNvSpPr/>
              <p:nvPr/>
            </p:nvSpPr>
            <p:spPr>
              <a:xfrm>
                <a:off x="636120" y="4187160"/>
                <a:ext cx="8202240" cy="686160"/>
              </a:xfrm>
              <a:prstGeom prst="rightArrow">
                <a:avLst>
                  <a:gd name="adj1" fmla="val 36602"/>
                  <a:gd name="adj2" fmla="val 4914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5320" y="468936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ff"/>
                    </a:solidFill>
                    <a:latin typeface="Arial"/>
                    <a:ea typeface="Arial_Unicode_MS"/>
                  </a:rPr>
                  <a:t>SET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44360" y="4689360"/>
                <a:ext cx="56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ff"/>
                    </a:solidFill>
                    <a:latin typeface="Arial"/>
                    <a:ea typeface="Arial_Unicode_MS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84880" y="46893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ff"/>
                    </a:solidFill>
                    <a:latin typeface="Arial"/>
                    <a:ea typeface="Arial_Unicode_MS"/>
                  </a:rPr>
                  <a:t>D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58080" y="4689360"/>
                <a:ext cx="61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 </a:t>
                </a:r>
                <a:r>
                  <a:rPr b="1" lang="en-US" sz="1400" spc="-1" strike="noStrike">
                    <a:solidFill>
                      <a:srgbClr val="00ffcc"/>
                    </a:solidFill>
                    <a:latin typeface="Arial"/>
                    <a:ea typeface="Arial_Unicode_MS"/>
                  </a:rPr>
                  <a:t>G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94280" y="46893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cc"/>
                    </a:solidFill>
                    <a:latin typeface="Arial"/>
                    <a:ea typeface="Arial_Unicode_MS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33640" y="468936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cc"/>
                    </a:solidFill>
                    <a:latin typeface="Arial"/>
                    <a:ea typeface="Arial_Unicode_MS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07320" y="468936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cc"/>
                    </a:solidFill>
                    <a:latin typeface="Arial"/>
                    <a:ea typeface="Arial_Unicode_MS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0080" y="468936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  <a:ea typeface="Arial_Unicode_MS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14400" y="4689360"/>
                <a:ext cx="59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  <a:ea typeface="Arial_Unicode_MS"/>
                  </a:rPr>
                  <a:t>MA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21080" y="4689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  <a:ea typeface="Arial_Unicode_MS"/>
                  </a:rPr>
                  <a:t>GI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76960" y="47253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cc"/>
                    </a:solidFill>
                    <a:latin typeface="Arial"/>
                    <a:ea typeface="Arial_Unicode_MS"/>
                  </a:rPr>
                  <a:t>GI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06080" y="47253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ff"/>
                    </a:solidFill>
                    <a:latin typeface="Arial"/>
                    <a:ea typeface="Arial_Unicode_MS"/>
                  </a:rPr>
                  <a:t>OT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D1A-8DB2-4C24-86A1-8BB23F58B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15c19"/>
                </a:solidFill>
                <a:latin typeface="Lucida Console"/>
              </a:rPr>
              <a:t> </a:t>
            </a:r>
            <a:r>
              <a:rPr b="1" lang="it-IT" sz="4400" spc="-1" strike="noStrike">
                <a:solidFill>
                  <a:srgbClr val="f15c19"/>
                </a:solidFill>
                <a:latin typeface="Arial Black"/>
              </a:rPr>
              <a:t>Documenti</a:t>
            </a:r>
            <a:r>
              <a:rPr b="1" lang="it-IT" sz="4400" spc="-1" strike="noStrike">
                <a:solidFill>
                  <a:srgbClr val="cbcbcb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ERIODICO ILLUSTRATO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    “</a:t>
            </a:r>
            <a:r>
              <a:rPr b="1" i="1" lang="it-IT" sz="3200" spc="-1" strike="noStrike">
                <a:solidFill>
                  <a:srgbClr val="ff3300"/>
                </a:solidFill>
                <a:latin typeface="Arial"/>
              </a:rPr>
              <a:t>dIario  di bordo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”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D-RO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IPERTESTO  MULTIMEDIALE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162-7BC4-42FC-943C-852BF3AEDF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e810c9"/>
                </a:solidFill>
                <a:latin typeface="Lucida Console"/>
              </a:rPr>
              <a:t>Obiettivi del Progetto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4800" spc="-1" strike="noStrike">
                <a:solidFill>
                  <a:srgbClr val="f15c19"/>
                </a:solidFill>
                <a:latin typeface="Arial Black"/>
              </a:rPr>
              <a:t>ORIENTAMENT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4800" spc="-1" strike="noStrike">
                <a:solidFill>
                  <a:srgbClr val="f15c19"/>
                </a:solidFill>
                <a:latin typeface="Arial Black"/>
              </a:rPr>
              <a:t>CONTINUITA’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4800" spc="-1" strike="noStrike">
                <a:solidFill>
                  <a:srgbClr val="f15c19"/>
                </a:solidFill>
                <a:latin typeface="Arial Black"/>
              </a:rPr>
              <a:t>INTEGRAZI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6CD-22BD-458A-A091-4544BFF9B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ffcc"/>
                </a:solidFill>
                <a:latin typeface="Lucida Console"/>
              </a:rPr>
              <a:t>Descrizione</a:t>
            </a:r>
            <a:endParaRPr b="0" lang="en-US" sz="9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PERCORSO FORMATIVO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P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    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REALIZZARE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 UN </a:t>
            </a:r>
            <a:r>
              <a:rPr b="1" i="1" lang="it-IT" sz="3200" spc="-1" strike="noStrike">
                <a:solidFill>
                  <a:srgbClr val="f15c19"/>
                </a:solidFill>
                <a:latin typeface="Arial"/>
              </a:rPr>
              <a:t>“PROGETTO  DI VITA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ORIENTARE  …PER FORMARE 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    </a:t>
            </a:r>
            <a:r>
              <a:rPr b="1" lang="it-IT" sz="3200" spc="-1" strike="noStrike">
                <a:solidFill>
                  <a:srgbClr val="f15c19"/>
                </a:solidFill>
                <a:latin typeface="Arial"/>
              </a:rPr>
              <a:t>PER IMPARARE A…  SAPER F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3434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l Progetto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OR.M.E.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è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un Progetto Ministeriale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ttiva 487/97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per l’Orientamento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cuola Materna ed Elemen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9436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DOCENTE RESPONSABILE: MARIA ACQUA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90B-51FB-49A5-8778-F632DBB6E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15c19"/>
                </a:solidFill>
                <a:latin typeface="Lucida Console"/>
              </a:rPr>
              <a:t>RAPPORTI CON L’ESTERNO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4400" spc="-1" strike="noStrike">
                <a:solidFill>
                  <a:srgbClr val="ff00ff"/>
                </a:solidFill>
                <a:latin typeface="Arial"/>
              </a:rPr>
              <a:t>ENTI LOCALI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it-IT" sz="4400" spc="-1" strike="noStrike">
                <a:solidFill>
                  <a:srgbClr val="ff00ff"/>
                </a:solidFill>
                <a:latin typeface="Arial"/>
              </a:rPr>
              <a:t>AS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ff"/>
                </a:solidFill>
                <a:latin typeface="Arial"/>
              </a:rPr>
              <a:t>ASSOCIAZION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ff"/>
                </a:solidFill>
                <a:latin typeface="Arial"/>
              </a:rPr>
              <a:t>AGENZIE EDUCATIVE (ISPEF)</a:t>
            </a:r>
            <a:r>
              <a:rPr b="1" lang="it-IT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B08-0836-45F9-8C8A-1893CF1218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Arial Black"/>
              </a:rPr>
              <a:t>PAROLE “ CHIAVE ”</a:t>
            </a:r>
            <a:r>
              <a:rPr b="0" lang="it-IT" sz="5400" spc="-1" strike="noStrike">
                <a:solidFill>
                  <a:srgbClr val="ff3300"/>
                </a:solidFill>
                <a:latin typeface="Arial Black"/>
              </a:rPr>
              <a:t>  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accoglienz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identità persona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relazi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prevenzi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4800" spc="-1" strike="noStrike">
                <a:solidFill>
                  <a:srgbClr val="ff3300"/>
                </a:solidFill>
                <a:latin typeface="Arial"/>
              </a:rPr>
              <a:t>progettazi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B47-F878-41D1-B5BF-FAC77015E8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it-IT" sz="5400" spc="-1" strike="noStrike">
                <a:solidFill>
                  <a:srgbClr val="ff3300"/>
                </a:solidFill>
                <a:latin typeface="Lucida Console"/>
              </a:rPr>
              <a:t>FASI  ANNUALI  DEL  PROGETTO</a:t>
            </a:r>
            <a:r>
              <a:rPr b="0" lang="it-IT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it-IT" sz="5400" spc="-1" strike="noStrike">
                <a:solidFill>
                  <a:srgbClr val="ffff00"/>
                </a:solidFill>
                <a:latin typeface="Times New Roman"/>
              </a:rPr>
              <a:t>Anno Scolastico 2003-2004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1" lang="it-IT" sz="3200" spc="-1" strike="noStrike" baseline="30000">
                <a:solidFill>
                  <a:srgbClr val="00ffcc"/>
                </a:solidFill>
                <a:latin typeface="Arial"/>
              </a:rPr>
              <a:t>A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 FASE: SETTEMBRE - DICEMBRE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dalle EMOZIONI l alle  RELAZIONI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1" lang="it-IT" sz="3200" spc="-1" strike="noStrike" baseline="30000">
                <a:solidFill>
                  <a:srgbClr val="00ffcc"/>
                </a:solidFill>
                <a:latin typeface="Arial"/>
              </a:rPr>
              <a:t>A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 FASE: GENNAIO - APRILE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il progetto  “ SOCIO  -RELAZIONALE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della classe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1" lang="it-IT" sz="3200" spc="-1" strike="noStrike" baseline="30000">
                <a:solidFill>
                  <a:srgbClr val="00ffcc"/>
                </a:solidFill>
                <a:latin typeface="Arial"/>
              </a:rPr>
              <a:t>A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 FASE: MAGG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Verifica finale e diffusione del “</a:t>
            </a: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Diario di bord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410080"/>
            <a:ext cx="152640" cy="15264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EE9-6178-4F43-91CA-19D34CB77A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Lucida Console"/>
              </a:rPr>
              <a:t>Aspetti tecnologici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1" lang="it-IT" sz="3200" spc="-1" strike="noStrike">
                <a:solidFill>
                  <a:srgbClr val="00ffcc"/>
                </a:solidFill>
                <a:latin typeface="Arial"/>
              </a:rPr>
              <a:t>uove tecnologie utilizzat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ompu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foto-camera digit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masterizzato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sito we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it-IT" sz="3600" spc="-1" strike="noStrike">
                <a:solidFill>
                  <a:srgbClr val="00ffcc"/>
                </a:solidFill>
                <a:latin typeface="Arial"/>
              </a:rPr>
              <a:t>Vantaggi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nterscambi d’esperienze con altre    scuole del territo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reazione  di  una rete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F15-0E27-4348-AA07-F4777DB341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15c19"/>
                </a:solidFill>
                <a:latin typeface="Lucida Console"/>
              </a:rPr>
              <a:t>Gruppo di lavoro e altre risors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Docenti dell’Istitu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Comprensivo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Materna – Elementare -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Alunni dai 5 anni agli 11 ann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Collaboratori scolastici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Ufficio Amministrativ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AB5-062A-4603-86CD-1CF1EB514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15c19"/>
                </a:solidFill>
                <a:latin typeface="Lucida Console"/>
              </a:rPr>
              <a:t>metodologie</a:t>
            </a:r>
            <a:endParaRPr b="0" lang="en-US" sz="8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METODO INTEGRAT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   “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T.  GORDON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TECNICA RELAZIONALE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( ROLE - PLAYNG)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CIRCLE – TI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TEST – QUESTIONARI –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ff3300"/>
                </a:solidFill>
                <a:latin typeface="Arial"/>
              </a:rPr>
              <a:t>SCHEDE STRUTTUR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63D-C954-414F-9370-F9733A4649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</cp:lastModifiedBy>
  <dcterms:modified xsi:type="dcterms:W3CDTF">2004-01-29T22:48:38Z</dcterms:modified>
  <cp:revision>5</cp:revision>
  <dc:subject/>
  <dc:title>Presentazione di PowerPoint</dc:title>
</cp:coreProperties>
</file>